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F162-4519-42C6-8B45-F904F1E7E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 Del Sueno – low al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 Del Sueno – high al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dictions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ings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diction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ing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dictions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ings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38A0-8A1F-42FC-884D-706B315B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EF4D-DF73-4483-B03C-331AFCAA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F325-13D8-4C38-AA1E-18A49D2B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32D4-5627-4B2B-A315-DCBC0331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D58-8360-4CBB-A8A7-4BA02FCC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5D7A-A0C4-4CA8-A4B3-2A0B7891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CAF-1746-4FC5-B8F5-A3B8589F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F26-4515-4E46-9B9E-0B3327F9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6D5-16A0-4350-A4C4-7558BFDC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DB9A-3319-48BD-9233-5CE5C50A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9ECD-5EA9-4E0C-8BD3-E042F159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C6E4-5C3E-4015-894A-4E4B2536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A312-0C93-42F5-A3E9-912DAB546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04840" y="633240"/>
            <a:ext cx="6934320" cy="5591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28400" y="649116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 Del Sueno – low al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04840" y="633240"/>
            <a:ext cx="6934320" cy="5591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52800" y="649116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 Del Sueno – high al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04840" y="633240"/>
            <a:ext cx="6934320" cy="5591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37160" y="64911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04840" y="633240"/>
            <a:ext cx="6934320" cy="5591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37160" y="64911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dictions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04840" y="633240"/>
            <a:ext cx="6934320" cy="5591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042800" y="64911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ings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04840" y="633240"/>
            <a:ext cx="6934320" cy="5591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737160" y="64911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dictions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04840" y="633240"/>
            <a:ext cx="6934320" cy="5591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66480" y="64911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ings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04840" y="633240"/>
            <a:ext cx="6934320" cy="5591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89440" y="64911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diction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04840" y="633240"/>
            <a:ext cx="6934320" cy="5591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66480" y="64911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ing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5:29:32Z</dcterms:created>
  <dc:creator>Staff</dc:creator>
  <dc:description/>
  <dc:language>en-US</dc:language>
  <cp:lastModifiedBy>Staff</cp:lastModifiedBy>
  <dcterms:modified xsi:type="dcterms:W3CDTF">2008-07-22T15:32:55Z</dcterms:modified>
  <cp:revision>2</cp:revision>
  <dc:subject/>
  <dc:title>Slide 1</dc:title>
</cp:coreProperties>
</file>